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DDEC-3453-4035-81DF-F4B5819D5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1F13-EA12-421A-9E90-A64134A22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7A82-4390-4AE3-8E8F-4B1761A46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9052-ECFC-4DDA-8FE7-09A84D700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D4CE-2FB0-48FA-8421-AD92ABA80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5E2E-31E8-49A6-86D6-407E5896C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96E5-B4AC-4055-92A7-A26F58030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3963-D3F6-447B-8A27-2BC0D2CA0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55FD-D730-43E5-8876-6D464EC3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5D06-202D-4A43-9760-0796C8B7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E200-BBD8-478B-A88A-B071A96B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BB56-3355-4191-8073-45B3790E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45D8A-6D2A-4B23-A048-2628CA83E2E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90600" y="399960"/>
            <a:ext cx="836280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rcRect l="0" t="0" r="0" b="62049"/>
          <a:stretch/>
        </p:blipFill>
        <p:spPr>
          <a:xfrm>
            <a:off x="250920" y="312840"/>
            <a:ext cx="8642160" cy="1460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2"/>
          <a:srcRect l="26479" t="42078" r="25493" b="0"/>
          <a:stretch/>
        </p:blipFill>
        <p:spPr>
          <a:xfrm>
            <a:off x="250920" y="2565360"/>
            <a:ext cx="842472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عنوان 1"/>
          <p:cNvSpPr/>
          <p:nvPr/>
        </p:nvSpPr>
        <p:spPr>
          <a:xfrm>
            <a:off x="200160" y="907920"/>
            <a:ext cx="877068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ولاً : تعريف التفسي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عنوان 1"/>
          <p:cNvSpPr/>
          <p:nvPr/>
        </p:nvSpPr>
        <p:spPr>
          <a:xfrm>
            <a:off x="179280" y="1430280"/>
            <a:ext cx="8769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84240" indent="-984240" algn="r" rtl="1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غة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كشف والبيان والإظها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179280" y="1989000"/>
            <a:ext cx="876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84240" indent="-984240" algn="r" rtl="1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صطلاحاً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يان معاني القرآن الكري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50920" y="2637000"/>
            <a:ext cx="8770680" cy="4204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 التأوي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-36360" y="20520"/>
            <a:ext cx="9144000" cy="744480"/>
          </a:xfrm>
          <a:prstGeom prst="rect">
            <a:avLst/>
          </a:prstGeom>
          <a:ln w="0">
            <a:noFill/>
          </a:ln>
        </p:spPr>
      </p:pic>
      <p:sp>
        <p:nvSpPr>
          <p:cNvPr id="50" name="عنوان 1"/>
          <p:cNvSpPr/>
          <p:nvPr/>
        </p:nvSpPr>
        <p:spPr>
          <a:xfrm>
            <a:off x="195120" y="3130560"/>
            <a:ext cx="8769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84240" indent="-984240" algn="r" rtl="1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غة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رجوع إلى الأص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عنوان 1"/>
          <p:cNvSpPr/>
          <p:nvPr/>
        </p:nvSpPr>
        <p:spPr>
          <a:xfrm>
            <a:off x="195120" y="3546360"/>
            <a:ext cx="876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84240" indent="-984240" algn="ctr" rtl="1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صطلاحاً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رابط مستقيم 11"/>
          <p:cNvSpPr/>
          <p:nvPr/>
        </p:nvSpPr>
        <p:spPr>
          <a:xfrm flipH="1">
            <a:off x="4571640" y="4051440"/>
            <a:ext cx="324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2"/>
          <p:cNvSpPr/>
          <p:nvPr/>
        </p:nvSpPr>
        <p:spPr>
          <a:xfrm flipH="1" flipV="1">
            <a:off x="1476000" y="4287600"/>
            <a:ext cx="6048360" cy="14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24000" y="4584600"/>
            <a:ext cx="20872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نفس المراد بالكل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7"/>
          <p:cNvCxnSpPr/>
          <p:nvPr/>
        </p:nvCxnSpPr>
        <p:spPr>
          <a:xfrm>
            <a:off x="7524360" y="432396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5940360" y="4595760"/>
            <a:ext cx="2952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فسير الكلام وبيان معنا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رابط كسهم مستقيم 23"/>
          <p:cNvCxnSpPr/>
          <p:nvPr/>
        </p:nvCxnSpPr>
        <p:spPr>
          <a:xfrm>
            <a:off x="1476000" y="42879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" name="عنوان 1"/>
          <p:cNvSpPr/>
          <p:nvPr/>
        </p:nvSpPr>
        <p:spPr>
          <a:xfrm>
            <a:off x="5651640" y="5440320"/>
            <a:ext cx="324144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ومنه : دعائه لابن عباس </a:t>
            </a:r>
            <a:r>
              <a:rPr b="1" lang="ar-SA" sz="26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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((اللهم فقه في الدين وعلمه التأويل)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رابط كسهم مستقيم 27"/>
          <p:cNvCxnSpPr/>
          <p:nvPr/>
        </p:nvCxnSpPr>
        <p:spPr>
          <a:xfrm>
            <a:off x="7524360" y="508428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" name="عنوان 1"/>
          <p:cNvSpPr/>
          <p:nvPr/>
        </p:nvSpPr>
        <p:spPr>
          <a:xfrm>
            <a:off x="3419640" y="5586480"/>
            <a:ext cx="8571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طل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رابط كسهم مستقيم 31"/>
          <p:cNvCxnSpPr/>
          <p:nvPr/>
        </p:nvCxnSpPr>
        <p:spPr>
          <a:xfrm>
            <a:off x="3924000" y="52293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رابط مستقيم 32"/>
          <p:cNvSpPr/>
          <p:nvPr/>
        </p:nvSpPr>
        <p:spPr>
          <a:xfrm flipH="1">
            <a:off x="1476000" y="497844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رابط مستقيم 33"/>
          <p:cNvSpPr/>
          <p:nvPr/>
        </p:nvSpPr>
        <p:spPr>
          <a:xfrm flipH="1">
            <a:off x="610920" y="5229360"/>
            <a:ext cx="33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34"/>
          <p:cNvCxnSpPr/>
          <p:nvPr/>
        </p:nvCxnSpPr>
        <p:spPr>
          <a:xfrm>
            <a:off x="610920" y="52293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258840" y="5589720"/>
            <a:ext cx="85716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خب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رابط كسهم مستقيم 38"/>
          <p:cNvCxnSpPr/>
          <p:nvPr/>
        </p:nvCxnSpPr>
        <p:spPr>
          <a:xfrm>
            <a:off x="3924000" y="595008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" name="رابط كسهم مستقيم 39"/>
          <p:cNvCxnSpPr/>
          <p:nvPr/>
        </p:nvCxnSpPr>
        <p:spPr>
          <a:xfrm>
            <a:off x="755280" y="595008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" name="عنوان 1"/>
          <p:cNvSpPr/>
          <p:nvPr/>
        </p:nvSpPr>
        <p:spPr>
          <a:xfrm>
            <a:off x="2843280" y="6378480"/>
            <a:ext cx="20890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تأويله فعل المطلو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08000" y="6381720"/>
            <a:ext cx="2303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تأويله وقوع المخبر ب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2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-36360" y="44280"/>
            <a:ext cx="9144000" cy="744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8761680" cy="612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عنوان 1"/>
          <p:cNvSpPr/>
          <p:nvPr/>
        </p:nvSpPr>
        <p:spPr>
          <a:xfrm>
            <a:off x="200160" y="907920"/>
            <a:ext cx="877068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فرق بين التفسير والتأويل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(باعتبار المعنى الثاني للتأويل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-36360" y="20520"/>
            <a:ext cx="9144000" cy="744480"/>
          </a:xfrm>
          <a:prstGeom prst="rect">
            <a:avLst/>
          </a:prstGeom>
          <a:ln w="0">
            <a:noFill/>
          </a:ln>
        </p:spPr>
      </p:pic>
      <p:sp>
        <p:nvSpPr>
          <p:cNvPr id="76" name="رابط مستقيم 11"/>
          <p:cNvSpPr/>
          <p:nvPr/>
        </p:nvSpPr>
        <p:spPr>
          <a:xfrm flipH="1">
            <a:off x="4571640" y="134136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رابط مستقيم 12"/>
          <p:cNvSpPr/>
          <p:nvPr/>
        </p:nvSpPr>
        <p:spPr>
          <a:xfrm flipH="1" flipV="1">
            <a:off x="1476000" y="1577880"/>
            <a:ext cx="6048360" cy="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324000" y="1874880"/>
            <a:ext cx="208728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أوي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9" name="رابط كسهم مستقيم 17"/>
          <p:cNvCxnSpPr/>
          <p:nvPr/>
        </p:nvCxnSpPr>
        <p:spPr>
          <a:xfrm>
            <a:off x="7524360" y="161460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0" name="عنوان 1"/>
          <p:cNvSpPr/>
          <p:nvPr/>
        </p:nvSpPr>
        <p:spPr>
          <a:xfrm>
            <a:off x="5940360" y="1886040"/>
            <a:ext cx="2952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" name="رابط كسهم مستقيم 23"/>
          <p:cNvCxnSpPr/>
          <p:nvPr/>
        </p:nvCxnSpPr>
        <p:spPr>
          <a:xfrm>
            <a:off x="1476000" y="157788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2" name="عنوان 1"/>
          <p:cNvSpPr/>
          <p:nvPr/>
        </p:nvSpPr>
        <p:spPr>
          <a:xfrm>
            <a:off x="5435640" y="2730600"/>
            <a:ext cx="345744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شرح وبيان للكلام المراد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كثر ما يستعمل في الألفا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3" name="رابط كسهم مستقيم 27"/>
          <p:cNvCxnSpPr/>
          <p:nvPr/>
        </p:nvCxnSpPr>
        <p:spPr>
          <a:xfrm>
            <a:off x="7524360" y="237456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4" name="عنوان 1"/>
          <p:cNvSpPr/>
          <p:nvPr/>
        </p:nvSpPr>
        <p:spPr>
          <a:xfrm>
            <a:off x="250920" y="2703600"/>
            <a:ext cx="4249800" cy="19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حقيقة الكلام كقوله تعالى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كثر ما يستعمل في المعان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5" name="رابط كسهم مستقيم 35"/>
          <p:cNvCxnSpPr/>
          <p:nvPr/>
        </p:nvCxnSpPr>
        <p:spPr>
          <a:xfrm>
            <a:off x="1402920" y="2349000"/>
            <a:ext cx="1080" cy="28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179280" y="3213000"/>
            <a:ext cx="435636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44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843280" cy="677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3"/>
          <a:stretch/>
        </p:blipFill>
        <p:spPr>
          <a:xfrm>
            <a:off x="108000" y="836640"/>
            <a:ext cx="8926560" cy="129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258840" y="2276640"/>
          <a:ext cx="8680320" cy="2592360"/>
        </p:xfrm>
        <a:graphic>
          <a:graphicData uri="http://schemas.openxmlformats.org/drawingml/2006/table">
            <a:tbl>
              <a:tblPr/>
              <a:tblGrid>
                <a:gridCol w="4079880"/>
                <a:gridCol w="3338280"/>
                <a:gridCol w="126216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تأوي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تفسي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1f497d"/>
                          </a:solidFill>
                          <a:latin typeface="Calibri"/>
                          <a:cs typeface="Times New Roman"/>
                        </a:rPr>
                        <a:t>بيان معاني كلمات القرآن الكري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1f497d"/>
                          </a:solidFill>
                          <a:latin typeface="Calibri"/>
                          <a:cs typeface="Times New Roman"/>
                        </a:rPr>
                        <a:t>بيان معاني كلمات القرآن الكري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وجه الاتفا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4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1f497d"/>
                          </a:solidFill>
                          <a:latin typeface="Calibri"/>
                          <a:cs typeface="Times New Roman"/>
                        </a:rPr>
                        <a:t>بيان حقيقة الكلا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1f497d"/>
                          </a:solidFill>
                          <a:latin typeface="Calibri"/>
                          <a:cs typeface="Times New Roman"/>
                        </a:rPr>
                        <a:t>يستعمل في المعان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1f497d"/>
                          </a:solidFill>
                          <a:latin typeface="Calibri"/>
                          <a:cs typeface="Times New Roman"/>
                        </a:rPr>
                        <a:t>بيان الكلام المرا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1f497d"/>
                          </a:solidFill>
                          <a:latin typeface="Calibri"/>
                          <a:cs typeface="Times New Roman"/>
                        </a:rPr>
                        <a:t>يستعمل في الألفا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وجه الاختلا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